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81C-B978-4F90-942B-098CBEF5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C00-8321-4D86-AEB4-C9BB6BA5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3AA-7950-432F-8631-50EAFEFC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24A-A625-400A-B08C-9F8B2E63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CE4-15CB-4014-9CFF-B3E21764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8AA-BDE9-4964-B80B-2EFDEB70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872-CFBE-4B29-BE46-403633DA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05D-3FCC-4D1E-A686-A70FA8A9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66A-FC5A-41AA-9829-8D2D02D8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735-5627-4659-A24C-3C442AAC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302-DE61-4521-B0DE-5E935028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744-D835-449A-8884-0B8B962E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C0A4-0764-458D-97CB-88629DD62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na To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know where China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lank Map of Asia"/>
          <p:cNvPicPr/>
          <p:nvPr/>
        </p:nvPicPr>
        <p:blipFill>
          <a:blip r:embed="rId1"/>
          <a:stretch/>
        </p:blipFill>
        <p:spPr>
          <a:xfrm>
            <a:off x="4648320" y="1523880"/>
            <a:ext cx="379872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Oval 5"/>
          <p:cNvSpPr/>
          <p:nvPr/>
        </p:nvSpPr>
        <p:spPr>
          <a:xfrm rot="1241400">
            <a:off x="6395760" y="3901680"/>
            <a:ext cx="1433520" cy="835200"/>
          </a:xfrm>
          <a:prstGeom prst="ellipse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EASE TURN TO PAGE 1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xing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ads from the north entered China during the Period of Disunion, they lived peacefully with the Chinese and mixed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thern Chinese also mixed cultures with peoples living in souther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cultures mixed, new art and music developed and Chinese culture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Wang Zhaojun's tomb mound"/>
          <p:cNvPicPr/>
          <p:nvPr/>
        </p:nvPicPr>
        <p:blipFill>
          <a:blip r:embed="rId1"/>
          <a:stretch/>
        </p:blipFill>
        <p:spPr>
          <a:xfrm>
            <a:off x="6934320" y="2057400"/>
            <a:ext cx="19047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un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eriod of Disunion lasted from 220-5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ended when the ruler Yang Jian conquered southern China and formed the Sui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na would remain unified for about 70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sui1"/>
          <p:cNvPicPr/>
          <p:nvPr/>
        </p:nvPicPr>
        <p:blipFill>
          <a:blip r:embed="rId1"/>
          <a:stretch/>
        </p:blipFill>
        <p:spPr>
          <a:xfrm>
            <a:off x="6705720" y="4800600"/>
            <a:ext cx="1714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i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05320" y="2209680"/>
            <a:ext cx="548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s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unification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an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8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ang Jian, a ruler from the north, conquered the south and unified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ui dynasty lasted til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18 – that’s only 29 yea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ui"/>
          <p:cNvPicPr/>
          <p:nvPr/>
        </p:nvPicPr>
        <p:blipFill>
          <a:blip r:embed="rId1"/>
          <a:stretch/>
        </p:blipFill>
        <p:spPr>
          <a:xfrm>
            <a:off x="533520" y="2286000"/>
            <a:ext cx="221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i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hough the Sui dynasty didn’t last lo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s leaders restored order in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eation of the Grand Canal- a canal linking northern and southern China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egan during this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d Canal was used to transport grain through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the largest ancient canal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Grand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grandcanal"/>
          <p:cNvPicPr/>
          <p:nvPr/>
        </p:nvPicPr>
        <p:blipFill>
          <a:blip r:embed="rId1"/>
          <a:stretch/>
        </p:blipFill>
        <p:spPr>
          <a:xfrm>
            <a:off x="228600" y="1295280"/>
            <a:ext cx="4249800" cy="533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anal"/>
          <p:cNvPicPr/>
          <p:nvPr/>
        </p:nvPicPr>
        <p:blipFill>
          <a:blip r:embed="rId2"/>
          <a:stretch/>
        </p:blipFill>
        <p:spPr>
          <a:xfrm>
            <a:off x="4876920" y="1495440"/>
            <a:ext cx="3714480" cy="17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image?id=19402&amp;rendTypeId=4"/>
          <p:cNvPicPr/>
          <p:nvPr/>
        </p:nvPicPr>
        <p:blipFill>
          <a:blip r:embed="rId3"/>
          <a:stretch/>
        </p:blipFill>
        <p:spPr>
          <a:xfrm>
            <a:off x="4724280" y="3795840"/>
            <a:ext cx="419112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18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 former Sui official overthrew the old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ew Tang dynast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sted for 30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tang-dynasty-map1"/>
          <p:cNvPicPr/>
          <p:nvPr/>
        </p:nvPicPr>
        <p:blipFill>
          <a:blip r:embed="rId1"/>
          <a:stretch/>
        </p:blipFill>
        <p:spPr>
          <a:xfrm>
            <a:off x="2286000" y="3505320"/>
            <a:ext cx="4533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of the greatest rulers was Taiz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aizong conquered many lands, reformed the military and created law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uanzong was another great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der Xuanzong poetry and culture flou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ang dynasty also include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only woman to rule China- Empress W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e used ruthless methods but she brought stability and prosperity to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k on page 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ic63p20avr"/>
          <p:cNvPicPr/>
          <p:nvPr/>
        </p:nvPicPr>
        <p:blipFill>
          <a:blip r:embed="rId1"/>
          <a:stretch/>
        </p:blipFill>
        <p:spPr>
          <a:xfrm>
            <a:off x="5238720" y="3803760"/>
            <a:ext cx="299088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ang Dynasty is known as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lden age of Chinese civilization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ulture flour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ina gr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include much of eastern Asia and 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lden Age of Buddhis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400 - 8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technolog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as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ang Dynasty Map"/>
          <p:cNvPicPr/>
          <p:nvPr/>
        </p:nvPicPr>
        <p:blipFill>
          <a:blip r:embed="rId1"/>
          <a:stretch/>
        </p:blipFill>
        <p:spPr>
          <a:xfrm>
            <a:off x="762120" y="4356000"/>
            <a:ext cx="3219480" cy="2273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h2_19"/>
          <p:cNvPicPr/>
          <p:nvPr/>
        </p:nvPicPr>
        <p:blipFill>
          <a:blip r:embed="rId2"/>
          <a:stretch/>
        </p:blipFill>
        <p:spPr>
          <a:xfrm>
            <a:off x="6705720" y="3733920"/>
            <a:ext cx="2243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eople’s Republic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ij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where the Olympics were ho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Geographic map of Asia"/>
          <p:cNvPicPr/>
          <p:nvPr/>
        </p:nvPicPr>
        <p:blipFill>
          <a:blip r:embed="rId1"/>
          <a:stretch/>
        </p:blipFill>
        <p:spPr>
          <a:xfrm>
            <a:off x="3429000" y="20192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ve Dynasties and Ten Kingd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the Tang Dynasty fell, China was divided into separate kingdoms for power in a period know as the Five Dynasties and Ten Kingd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the Tang dynasty fell there was short a period of ch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60, China was reunified under the Song dynasty, which lasted till 12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-7-25"/>
          <p:cNvPicPr/>
          <p:nvPr/>
        </p:nvPicPr>
        <p:blipFill>
          <a:blip r:embed="rId1"/>
          <a:stretch/>
        </p:blipFill>
        <p:spPr>
          <a:xfrm>
            <a:off x="5791320" y="1447920"/>
            <a:ext cx="2887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o K’uang-yin founded the Song dynas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He was a general who was made emperor by his soldiers in 960 A.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sungdynasty"/>
          <p:cNvPicPr/>
          <p:nvPr/>
        </p:nvPicPr>
        <p:blipFill>
          <a:blip r:embed="rId1"/>
          <a:stretch/>
        </p:blipFill>
        <p:spPr>
          <a:xfrm>
            <a:off x="5638680" y="3352680"/>
            <a:ext cx="26290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ing the Song dynast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rming reached new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 trade became more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per mone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a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ulture flou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GL-Farming"/>
          <p:cNvPicPr/>
          <p:nvPr/>
        </p:nvPicPr>
        <p:blipFill>
          <a:blip r:embed="rId1"/>
          <a:stretch/>
        </p:blipFill>
        <p:spPr>
          <a:xfrm>
            <a:off x="4800600" y="3962520"/>
            <a:ext cx="411480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ing the Period of Disunion, what often happed when different cultures came into contact with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was cultural warfare that lasted until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wa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ultures argued until one culture agreed to adapt all aspects of the other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ultures blended to form a new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ultures remained distinct, with very little mixing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was the lasting achieve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ang Chien’s Sui dynas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dynasty reunified China, ending the Period of Dis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i dynasty is the longest-lasting dynasty in Chinese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i dynasty conquered most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i dynasty leaders promoted the complete conversion of its people to Buddh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do historians view the Tang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the golden age of Chinese civil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ng dynasty leaders lived in palaces made of solid g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 located between the gold mines in the south and valuable salt resources in the n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isans during the Tang dynasty learned to work with gold in new and exciting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 a period of great expansion as well as artistic, legal, and cultural achiev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did so many people turn to 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Period of Disu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 Buddhist temples offered food to anyone willing to   convert to the reli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kingdom’s leaders forced people to convert to Buddh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ddhism offered the people a strong education for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took comfort in the Buddhist teaching that people can escape suffering through a cycle of rebi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of the following correctly shows the order of dynasties in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i, Song, T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i, Tang,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ng, Song, S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g, Sui, T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na in the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y re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 food re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na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isher-Price toys subject to recall. (AP / Kevin Wolf)"/>
          <p:cNvPicPr/>
          <p:nvPr/>
        </p:nvPicPr>
        <p:blipFill>
          <a:blip r:embed="rId1"/>
          <a:stretch/>
        </p:blipFill>
        <p:spPr>
          <a:xfrm>
            <a:off x="990720" y="3921120"/>
            <a:ext cx="4267080" cy="227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0071024_335679_02"/>
          <p:cNvPicPr/>
          <p:nvPr/>
        </p:nvPicPr>
        <p:blipFill>
          <a:blip r:embed="rId2"/>
          <a:stretch/>
        </p:blipFill>
        <p:spPr>
          <a:xfrm>
            <a:off x="5638680" y="1523880"/>
            <a:ext cx="32292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mpress Wu ruled China with an iron fist.  Those who threatened her power risked death. Yet she was an effective leader and appointed highly skilled offic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ynasty would have collapsed and thrown China into another Period of Dis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 sons would have taken over leadership of the dynas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ere so many skilled leaders that it would not have made a dif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vading empire would have conquered all of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than a billion people live in China, that’s 1,321,851,900 to be exa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U.S. population is about 301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people live in rural (country)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# of every 5 people                                   live in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zhaoqing"/>
          <p:cNvPicPr/>
          <p:nvPr/>
        </p:nvPicPr>
        <p:blipFill>
          <a:blip r:embed="rId1"/>
          <a:stretch/>
        </p:blipFill>
        <p:spPr>
          <a:xfrm>
            <a:off x="4800600" y="4038480"/>
            <a:ext cx="3648240" cy="251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NDO-CHINA TIES: Chinese are more interested to know about the historical connections between China, India."/>
          <p:cNvPicPr/>
          <p:nvPr/>
        </p:nvPicPr>
        <p:blipFill>
          <a:blip r:embed="rId2"/>
          <a:stretch/>
        </p:blipFill>
        <p:spPr>
          <a:xfrm>
            <a:off x="1295280" y="4952880"/>
            <a:ext cx="2362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hool in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s must go to school for nin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students go to five years of elementary school, three years of junior high and two years of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hinese children attend a class at a primary school in China's rural Panghai town, Guizhou Province March 1, 2006. Spending on education is expected to take up a record 4 per cent of China's gross domestic product (GDP) during the coming five years"/>
          <p:cNvPicPr/>
          <p:nvPr/>
        </p:nvPicPr>
        <p:blipFill>
          <a:blip r:embed="rId1"/>
          <a:stretch/>
        </p:blipFill>
        <p:spPr>
          <a:xfrm>
            <a:off x="2057400" y="3236760"/>
            <a:ext cx="50292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na’s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na’s geography includes mountains, deserts and fertile river bas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’s the world’s third largest country after Russia and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world’s highest point- Mt. Everest borders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t Everest"/>
          <p:cNvPicPr/>
          <p:nvPr/>
        </p:nvPicPr>
        <p:blipFill>
          <a:blip r:embed="rId1"/>
          <a:stretch/>
        </p:blipFill>
        <p:spPr>
          <a:xfrm>
            <a:off x="5105520" y="4038480"/>
            <a:ext cx="3267000" cy="2613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ap"/>
          <p:cNvPicPr/>
          <p:nvPr/>
        </p:nvPicPr>
        <p:blipFill>
          <a:blip r:embed="rId2"/>
          <a:stretch/>
        </p:blipFill>
        <p:spPr>
          <a:xfrm>
            <a:off x="990720" y="4343400"/>
            <a:ext cx="28954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these maps tell u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hina_agricultural_86"/>
          <p:cNvPicPr/>
          <p:nvPr/>
        </p:nvPicPr>
        <p:blipFill>
          <a:blip r:embed="rId1"/>
          <a:stretch/>
        </p:blipFill>
        <p:spPr>
          <a:xfrm>
            <a:off x="533520" y="3352680"/>
            <a:ext cx="3047760" cy="292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hin-pop"/>
          <p:cNvPicPr/>
          <p:nvPr/>
        </p:nvPicPr>
        <p:blipFill>
          <a:blip r:embed="rId2"/>
          <a:stretch/>
        </p:blipFill>
        <p:spPr>
          <a:xfrm>
            <a:off x="4343400" y="3317760"/>
            <a:ext cx="4495680" cy="3006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62485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Agricultural 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334120" y="62625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Population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hina map"/>
          <p:cNvPicPr/>
          <p:nvPr/>
        </p:nvPicPr>
        <p:blipFill>
          <a:blip r:embed="rId3"/>
          <a:stretch/>
        </p:blipFill>
        <p:spPr>
          <a:xfrm>
            <a:off x="4648320" y="152280"/>
            <a:ext cx="38862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cient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re going to start studying China after the collapse of the Han dynasty in 2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cientChina"/>
          <p:cNvPicPr/>
          <p:nvPr/>
        </p:nvPicPr>
        <p:blipFill>
          <a:blip r:embed="rId1"/>
          <a:stretch/>
        </p:blipFill>
        <p:spPr>
          <a:xfrm>
            <a:off x="1828800" y="2743200"/>
            <a:ext cx="56386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cient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the Han Dynasty fell, China split into several rival king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period is called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iod of Dis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The Great Wall"/>
          <p:cNvPicPr/>
          <p:nvPr/>
        </p:nvPicPr>
        <p:blipFill>
          <a:blip r:embed="rId1"/>
          <a:stretch/>
        </p:blipFill>
        <p:spPr>
          <a:xfrm>
            <a:off x="6248520" y="3581280"/>
            <a:ext cx="19620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20:35:18Z</dcterms:created>
  <dc:creator>MS</dc:creator>
  <dc:description/>
  <dc:language>en-US</dc:language>
  <cp:lastModifiedBy>San Diego City Schools</cp:lastModifiedBy>
  <dcterms:modified xsi:type="dcterms:W3CDTF">2013-01-08T19:54:45Z</dcterms:modified>
  <cp:revision>43</cp:revision>
  <dc:subject/>
  <dc:title>China </dc:title>
</cp:coreProperties>
</file>